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FB1-7E1C-4EFA-A9C7-4B5AE80F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0CD-5A4F-4D9B-8F44-C5AC80B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60C-A995-49AD-8754-6A1CC0DA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377-B915-4C26-93C8-8780937E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DA1-B936-4122-A922-C81E9F9D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9BC-06F9-4988-A830-23C16986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F0DA-1DCA-47F0-A3B7-848337E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BF75-94FE-4062-B29D-10F1BFB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13DE-26AA-4712-A887-F72AD6D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FBB1-749D-47CE-82B9-AF24BC7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AE2A-D164-4DD5-8254-F85410F7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D00-8C99-413E-950A-B1FE5CD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A1D-93F3-4319-B0DB-C76D643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8FCD-8104-49EF-AD39-4DE967F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E5B-8E64-4A79-BA3D-B4A0CBDE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A890-C9B8-40CC-8836-04C3D69D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B25-46AD-4891-B507-935D6A45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0526-3160-4598-9940-0AD11860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160B-4240-4297-B3E9-EC418B32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3739-9742-4A08-9022-3BAA7294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E6B6-D0A2-4CAD-A46A-869D840D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02E1-2BEA-4DDD-9494-5D3B754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D77-138B-4610-B6D1-7F7F760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595B-E553-46EC-B874-72038F9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1C19-E800-4A55-AD0A-389DB6F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2662-1BB3-4FEF-B859-24148C6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F61D-DC8A-49B6-B4B0-125D8A4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9D4C-3B50-43AB-BA0F-E7D2EB8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8BD1-4D89-491F-A732-FC64D00D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06F4-C6C5-4486-ACDD-90BCF9CE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20EE-13F3-40EC-A643-F0A72B00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1F45-5717-4182-BF14-F17FC0EA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4C7B-322F-4454-8A3A-E35F7C1F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606-263C-4758-A95D-B5D85EF5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97C6-AFB2-4B68-9E36-5FE5907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7A26-E1BB-4853-8087-EEA33C9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DE76-0503-48B7-9733-1D57231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D284-BE70-452D-A6B5-2E9EAA4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1663-5440-45D2-8467-144E4A8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E466-2728-48BB-A247-B986F3C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E61F-0261-496A-9C2A-CEBAB19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3188-D726-4F20-8A4E-E9FE2824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FB44-7D89-4AE4-9778-291A6BE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54D-D99A-491F-9B60-21C989A0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E11-FFFC-4DD1-B0C6-1AE0CCD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B70-82A6-45D8-8938-1F1DB65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54A-FF60-4456-AD9D-9E26E7F3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B35-1159-4A49-A6A9-D179B79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6C41-011B-4317-8F9E-8C3B23D70A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6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6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70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71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7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8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457-3303-4F9F-9F96-33D86A117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722-8D77-4E20-943E-24724447C3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200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1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1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218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1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222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5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226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230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3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47FB-F64A-40C9-8D45-992DB359687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4400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2 класс 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МК «Школа России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чебник «Русский язык 2 класс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Канакина В.П., Горецкий В.Г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ма: удвоенные согласные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61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и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ветлакова Татьяна Николае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СОШ №3 г.Агры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у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в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428920" y="2271600"/>
            <a:ext cx="42861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ставка кни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2" descr="E:\отчет веронике николаевне\чип.jpg"/>
          <p:cNvPicPr/>
          <p:nvPr/>
        </p:nvPicPr>
        <p:blipFill>
          <a:blip r:embed="rId1"/>
          <a:stretch/>
        </p:blipFill>
        <p:spPr>
          <a:xfrm>
            <a:off x="0" y="15001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E:\отчет веронике николаевне\винн.jpg"/>
          <p:cNvPicPr/>
          <p:nvPr/>
        </p:nvPicPr>
        <p:blipFill>
          <a:blip r:embed="rId2"/>
          <a:stretch/>
        </p:blipFill>
        <p:spPr>
          <a:xfrm>
            <a:off x="3214800" y="2000160"/>
            <a:ext cx="2643120" cy="364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E:\отчет веронике николаевне\гуливер.jpg"/>
          <p:cNvPicPr/>
          <p:nvPr/>
        </p:nvPicPr>
        <p:blipFill>
          <a:blip r:embed="rId3"/>
          <a:stretch/>
        </p:blipFill>
        <p:spPr>
          <a:xfrm>
            <a:off x="6072120" y="2357280"/>
            <a:ext cx="28386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Имен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Анна, Инна, Алла, Геннадий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j0415472"/>
          <p:cNvPicPr/>
          <p:nvPr/>
        </p:nvPicPr>
        <p:blipFill>
          <a:blip r:embed="rId1"/>
          <a:stretch/>
        </p:blipFill>
        <p:spPr>
          <a:xfrm>
            <a:off x="1835280" y="907920"/>
            <a:ext cx="2966760" cy="302436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268360" y="364500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 rot="1680600">
            <a:off x="3564000" y="3645000"/>
            <a:ext cx="57636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292720" y="476280"/>
            <a:ext cx="50328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651640" y="476280"/>
            <a:ext cx="50292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715760" y="979560"/>
            <a:ext cx="96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е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49520" y="153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268360" y="206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50920" y="263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282760" y="31719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д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06493 0.00186 E">
                                      <p:cBhvr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07622 -4.07407E-006 E">
                                      <p:cBhvr>
                                        <p:cTn id="149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09861 -0.00185 E">
                                      <p:cBhvr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07327 0.00046 E">
                                      <p:cBhvr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-на, Ин-на, Ал-ла, Ген-надий, Генна-д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амостоятель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18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рат, с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б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а, теле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х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к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ист, к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кция, 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рф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п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жир, пр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кр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в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Хок-кеист, хокке-и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28760" y="1357200"/>
          <a:ext cx="8229600" cy="5048280"/>
        </p:xfrm>
        <a:graphic>
          <a:graphicData uri="http://schemas.openxmlformats.org/drawingml/2006/table">
            <a:tbl>
              <a:tblPr/>
              <a:tblGrid>
                <a:gridCol w="1114200"/>
                <a:gridCol w="5815080"/>
                <a:gridCol w="13003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пилка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00200"/>
          <a:ext cx="8229600" cy="3070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яя работ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исать из орфографического словаря 8 слов с удвоенной согла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а урока: удвоенные согласны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123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21337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ть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306828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Тренироваться в написании новых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4149720"/>
            <a:ext cx="79930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Применять в речи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143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1714680"/>
          <a:ext cx="8115120" cy="4976640"/>
        </p:xfrm>
        <a:graphic>
          <a:graphicData uri="http://schemas.openxmlformats.org/drawingml/2006/table">
            <a:tbl>
              <a:tblPr/>
              <a:tblGrid>
                <a:gridCol w="631800"/>
                <a:gridCol w="6107040"/>
                <a:gridCol w="13762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j0415472"/>
          <p:cNvPicPr/>
          <p:nvPr/>
        </p:nvPicPr>
        <p:blipFill>
          <a:blip r:embed="rId1"/>
          <a:stretch/>
        </p:blipFill>
        <p:spPr>
          <a:xfrm>
            <a:off x="1835280" y="981000"/>
            <a:ext cx="4802040" cy="489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2627280" y="537372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 rot="1680600">
            <a:off x="4788000" y="5373360"/>
            <a:ext cx="57600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, 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ра, гри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и к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жир, п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н, т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с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тит и теле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х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кк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ист и орфо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Мы слова такие слышим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 с двойной согласной пише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230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2627280" y="486900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тняя пристрой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до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2411280" y="2637000"/>
            <a:ext cx="2737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ассажирская платформа на вокзал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2411280" y="404640"/>
            <a:ext cx="30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мни, верёвки для управления лошад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51" descr="вожжи 3"/>
          <p:cNvPicPr/>
          <p:nvPr/>
        </p:nvPicPr>
        <p:blipFill>
          <a:blip r:embed="rId1"/>
          <a:stretch/>
        </p:blipFill>
        <p:spPr>
          <a:xfrm>
            <a:off x="6012000" y="51264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перрон 2"/>
          <p:cNvPicPr/>
          <p:nvPr/>
        </p:nvPicPr>
        <p:blipFill>
          <a:blip r:embed="rId2"/>
          <a:stretch/>
        </p:blipFill>
        <p:spPr>
          <a:xfrm>
            <a:off x="6084720" y="263700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терраса2"/>
          <p:cNvPicPr/>
          <p:nvPr/>
        </p:nvPicPr>
        <p:blipFill>
          <a:blip r:embed="rId3"/>
          <a:stretch/>
        </p:blipFill>
        <p:spPr>
          <a:xfrm>
            <a:off x="6084720" y="4581360"/>
            <a:ext cx="2374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ассажир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ер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касс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000680" y="35712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835280" y="141300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3348000" y="1413000"/>
            <a:ext cx="719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2340000" y="1413000"/>
            <a:ext cx="544320" cy="1260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059280" y="1700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835280" y="278136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2340000" y="2781360"/>
            <a:ext cx="503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1835280" y="31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2195640" y="4149720"/>
            <a:ext cx="57600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ли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-Пу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343240" y="1600200"/>
            <a:ext cx="4456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26:56Z</dcterms:created>
  <dc:creator>15</dc:creator>
  <dc:description/>
  <dc:language>en-US</dc:language>
  <cp:lastModifiedBy>Windows 8</cp:lastModifiedBy>
  <dcterms:modified xsi:type="dcterms:W3CDTF">2016-12-19T20:16:53Z</dcterms:modified>
  <cp:revision>143</cp:revision>
  <dc:subject/>
  <dc:title>Йогурт, Йемен, йод и йог: Буква «Й» лаёт урок                                А. Кочергина</dc:title>
</cp:coreProperties>
</file>